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542000" cy="26211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DFEA84-9921-432B-B1EE-07928E61A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325E53-17D3-49ED-9DFE-49A93F9161F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27000" y="1407384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47772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6892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21120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2700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56892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21120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27000" y="6133320"/>
            <a:ext cx="1668744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1668744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27000" y="1045800"/>
            <a:ext cx="16687440" cy="20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7772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46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31:13Z</dcterms:modified>
  <cp:revision>12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